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CDD-96CE-4782-ABA9-4F4AC023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089-FD8A-4499-B9F8-AF187206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4F7-7417-4EF3-8F14-D18849BD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2B1-E770-4A69-BBF2-FFB0C66B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FBE9-EDCB-4A13-8936-25D7799A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0B3E-EB12-43B2-9EE5-3E65C169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15CE-6730-4C00-A0DA-04F62C14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B31B-E80A-4930-A27A-A20D0F25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B1AD-B4EB-47C7-9B90-8D080927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9190-974A-46D8-A322-26F6ECB8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19EE-3960-4A54-8C78-F42CD101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C15-BD94-4A50-B49F-6703BDBD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BA23-12CD-4D82-A43D-39C96C16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CA60-1953-4473-8655-0CEFEDA7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CE0B-C3D9-4178-895D-2FE5DC1B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1F56-6868-4D4C-900D-2068F1F7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0267-7F5F-4A88-B648-DE6CFBBD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6608-F2C1-4E8D-A5E2-D4A28A88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0ABF-E023-4DF9-B67E-EF510673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ABF1-CAA4-4D87-AC88-0A995C17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A24F-494A-4100-AE15-F6C24C7D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DF5B-FCF2-4002-AAC1-E320E66D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238-7C47-4B87-A9F4-04280EFC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32C51-0FEF-458C-A3B0-EDD23962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3556-DF3A-4B5A-B507-402B0C83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B915-C196-4F76-98FC-344831B9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82E0-9F84-49A0-B02E-B24461AB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7196-B6DA-4F2F-B061-54D46224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C500-4141-4935-9B9E-96D52A37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F36A-E2D9-40F1-B514-10CFDF6B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0EAB8-F05A-426F-8B6F-D1688D15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93B6F-2F4D-4CB3-AE7C-3561E564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F515-AA99-42A0-B764-B869E4A4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10B-D036-41D2-8778-6B192108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F1A68-14F9-4D36-B45B-A9853490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AB93-B9EB-47B9-B373-C80005CB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0FBB9-83B3-4377-AAB2-6928EFE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D0148-ED4A-4078-92EF-84265678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799D-5766-48FB-8B9F-2D47DBE9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9290E-0965-486C-81C8-8C79C54C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5870F-2AE0-4FF6-9E6C-32852A2D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133B0-E2C9-4ADA-9889-2B47DE6D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3B2A0-9584-4397-BF87-14E7CC7B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D7D75-160C-4523-93B4-ADACE4CC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F88-4BA8-4F0A-9A86-01952CB9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9E514-BDBC-4210-944E-EDA2B8E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FFB29-CEA4-4B75-97B3-B2549F48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850DE-4654-4C63-AEA8-9B9EAE66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E962F-2F21-4CD3-BEAF-E8CD373D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8590D-140D-4466-8F69-9CC79B19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F3CB7-2793-42EF-B1E0-5F38F4E3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6868-1C00-43C6-8F39-34DCE91B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D0A00-9AA4-44E2-8537-F77DD163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26E03-C622-49C0-8348-9949CD03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84820-44E8-493C-89EA-1C86B5FC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DB4-C41C-4E94-AA2F-7A1CB200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E38E-FF3F-4348-8B76-D1523D02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34E-49B3-4378-A09F-FAF0356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58F-5A25-4B95-98C0-4F4EB6D0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649-672B-444B-BD03-2FB17AD2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88c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88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bbf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53D4-0DD2-4C36-BCAA-3A213DBF64E8}" type="slidenum">
              <a:rPr b="0" lang="ru-RU" sz="1100" spc="-1" strike="noStrike">
                <a:solidFill>
                  <a:srgbClr val="17bbf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88c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9800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88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FCF8-31A2-49DE-A8AB-E7106540EAB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88c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88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bbf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E73E-5BF6-464F-AB2D-1FF4671B49A5}" type="slidenum">
              <a:rPr b="0" lang="ru-RU" sz="1100" spc="-1" strike="noStrike">
                <a:solidFill>
                  <a:srgbClr val="17bbf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88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bbf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9BB5-BB5A-4502-AA75-8911DA284479}" type="slidenum">
              <a:rPr b="0" lang="ru-RU" sz="1100" spc="-1" strike="noStrike">
                <a:solidFill>
                  <a:srgbClr val="17bbf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88c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88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88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bbf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7bbf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1A76-8D01-40F4-ABA4-17ACBD09EC3E}" type="slidenum">
              <a:rPr b="0" lang="ru-RU" sz="1100" spc="-1" strike="noStrike">
                <a:solidFill>
                  <a:srgbClr val="17bbf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53880" y="781200"/>
            <a:ext cx="8656920" cy="1869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4929120" y="2428920"/>
            <a:ext cx="21798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142920" y="357120"/>
            <a:ext cx="77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c000"/>
                </a:solidFill>
                <a:uFillTx/>
                <a:latin typeface="Trebuchet MS"/>
              </a:rPr>
              <a:t>Основополагающий вопрос:</a:t>
            </a:r>
            <a:endParaRPr b="0" lang="en-US" sz="44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357120" y="2214720"/>
            <a:ext cx="700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2d050"/>
                </a:solidFill>
                <a:latin typeface="Trebuchet MS"/>
              </a:rPr>
              <a:t>Зачем изучают логарифмы в школе? </a:t>
            </a:r>
            <a:endParaRPr b="0" lang="en-US" sz="5400" spc="-1" strike="noStrike">
              <a:solidFill>
                <a:srgbClr val="ff388c"/>
              </a:solidFill>
              <a:latin typeface="Arial"/>
            </a:endParaRPr>
          </a:p>
        </p:txBody>
      </p:sp>
      <p:pic>
        <p:nvPicPr>
          <p:cNvPr id="224" name="Picture 4" descr="image009"/>
          <p:cNvPicPr/>
          <p:nvPr/>
        </p:nvPicPr>
        <p:blipFill>
          <a:blip r:embed="rId1"/>
          <a:stretch/>
        </p:blipFill>
        <p:spPr>
          <a:xfrm>
            <a:off x="5572080" y="4071960"/>
            <a:ext cx="18129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500400" y="214200"/>
            <a:ext cx="73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c000"/>
                </a:solidFill>
                <a:uFillTx/>
                <a:latin typeface="Trebuchet MS"/>
              </a:rPr>
              <a:t>Проблемные вопросы:</a:t>
            </a:r>
            <a:endParaRPr b="0" lang="en-US" sz="5400" spc="-1" strike="noStrike">
              <a:solidFill>
                <a:srgbClr val="ff388c"/>
              </a:solidFill>
              <a:latin typeface="Arial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357120" y="1214280"/>
            <a:ext cx="7429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Trebuchet MS"/>
              </a:rPr>
              <a:t>Почему логарифмы нужны современному человеку?</a:t>
            </a:r>
            <a:endParaRPr b="0" lang="en-US" sz="4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Trebuchet MS"/>
              </a:rPr>
              <a:t>Достаточно ли тех знаний о логарифмах, которые мы получаем в школе?</a:t>
            </a:r>
            <a:endParaRPr b="0" lang="en-US" sz="4800" spc="-1" strike="noStrike">
              <a:solidFill>
                <a:srgbClr val="ff38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2676600" cy="2643120"/>
          </a:xfrm>
          <a:prstGeom prst="rect">
            <a:avLst/>
          </a:prstGeom>
          <a:ln w="0">
            <a:noFill/>
          </a:ln>
        </p:spPr>
      </p:pic>
      <p:pic>
        <p:nvPicPr>
          <p:cNvPr id="228" name="Заголовок 1" descr=""/>
          <p:cNvPicPr/>
          <p:nvPr/>
        </p:nvPicPr>
        <p:blipFill>
          <a:blip r:embed="rId2"/>
          <a:stretch/>
        </p:blipFill>
        <p:spPr>
          <a:xfrm>
            <a:off x="328680" y="-176040"/>
            <a:ext cx="7638840" cy="15778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85560" y="1356840"/>
            <a:ext cx="6453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0800"/>
                </a:solidFill>
                <a:latin typeface="Trebuchet MS"/>
              </a:rPr>
              <a:t>Что можно узнать из истории логарифмов?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0800"/>
                </a:solidFill>
                <a:latin typeface="Trebuchet MS"/>
              </a:rPr>
              <a:t>Какие знания о логарифмах мы получаем в школе? 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17bbf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0800"/>
                </a:solidFill>
                <a:latin typeface="Trebuchet MS"/>
              </a:rPr>
              <a:t>Какое практическое применение логарифмов в различных сферах деятельности человека?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rebuchet MS"/>
              </a:rPr>
              <a:t>- История возникновения логарифмов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rebuchet MS"/>
              </a:rPr>
              <a:t>- Знакомство с логарифмами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rebuchet MS"/>
              </a:rPr>
              <a:t>-Логарифмы в искусстве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rebuchet MS"/>
              </a:rPr>
              <a:t>-Логарифмы в природе</a:t>
            </a:r>
            <a:endParaRPr b="0" lang="en-US" sz="3600" spc="-1" strike="noStrike">
              <a:solidFill>
                <a:srgbClr val="ff388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88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7bbfd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88c"/>
              </a:solidFill>
              <a:latin typeface="Trebuchet MS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500040" y="50004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Trebuchet MS"/>
              </a:rPr>
              <a:t>Исследовательская работа</a:t>
            </a:r>
            <a:endParaRPr b="0" lang="en-US" sz="4000" spc="-1" strike="noStrike">
              <a:solidFill>
                <a:srgbClr val="ff388c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5500800" y="4572000"/>
            <a:ext cx="25002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214200" y="142920"/>
            <a:ext cx="857268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3ddff"/>
                </a:solidFill>
                <a:latin typeface="Trebuchet MS"/>
              </a:rPr>
              <a:t>Чтобы начать исследование нам надо:</a:t>
            </a:r>
            <a:endParaRPr b="0" lang="en-US" sz="36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dff"/>
                </a:solidFill>
                <a:latin typeface="Trebuchet MS"/>
              </a:rPr>
              <a:t>1 этап </a:t>
            </a:r>
            <a:r>
              <a:rPr b="0" lang="ru-RU" sz="2800" spc="-1" strike="noStrike">
                <a:solidFill>
                  <a:srgbClr val="ffc000"/>
                </a:solidFill>
                <a:latin typeface="Trebuchet MS"/>
              </a:rPr>
              <a:t>- разбиться на группы, чтобы каждая группа более глубоко исследовала свой вопрос и представила результаты всем.</a:t>
            </a:r>
            <a:endParaRPr b="0" lang="en-US" sz="2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dff"/>
                </a:solidFill>
                <a:latin typeface="Trebuchet MS"/>
              </a:rPr>
              <a:t>2 этап </a:t>
            </a:r>
            <a:r>
              <a:rPr b="0" lang="ru-RU" sz="2800" spc="-1" strike="noStrike">
                <a:solidFill>
                  <a:srgbClr val="ffc000"/>
                </a:solidFill>
                <a:latin typeface="Trebuchet MS"/>
              </a:rPr>
              <a:t>- наметить сроки для: проведения исследований, поиска необходимой информации,  встреч для анализа и оценивания готовых результатов.</a:t>
            </a:r>
            <a:endParaRPr b="0" lang="en-US" sz="2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dff"/>
                </a:solidFill>
                <a:latin typeface="Trebuchet MS"/>
              </a:rPr>
              <a:t>3 этап </a:t>
            </a:r>
            <a:r>
              <a:rPr b="0" lang="ru-RU" sz="2800" spc="-1" strike="noStrike">
                <a:solidFill>
                  <a:srgbClr val="ffc000"/>
                </a:solidFill>
                <a:latin typeface="Trebuchet MS"/>
              </a:rPr>
              <a:t>- условиться о способах взаимодействия, общения, оперативной помощи друг другу.</a:t>
            </a:r>
            <a:endParaRPr b="0" lang="en-US" sz="2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dff"/>
                </a:solidFill>
                <a:latin typeface="Trebuchet MS"/>
              </a:rPr>
              <a:t>4 этап </a:t>
            </a:r>
            <a:r>
              <a:rPr b="0" lang="ru-RU" sz="2800" spc="-1" strike="noStrike">
                <a:solidFill>
                  <a:srgbClr val="ffc000"/>
                </a:solidFill>
                <a:latin typeface="Trebuchet MS"/>
              </a:rPr>
              <a:t>– публичное представление и обсуждение полученных результатов.</a:t>
            </a:r>
            <a:endParaRPr b="0" lang="en-US" sz="2800" spc="-1" strike="noStrike">
              <a:solidFill>
                <a:srgbClr val="ff38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8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721512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571680" y="15001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1f7f7"/>
                </a:solidFill>
                <a:latin typeface="Trebuchet MS"/>
              </a:rPr>
              <a:t>Успехов вам!</a:t>
            </a:r>
            <a:endParaRPr b="0" lang="en-US" sz="7200" spc="-1" strike="noStrike">
              <a:solidFill>
                <a:srgbClr val="ff38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53:30Z</dcterms:created>
  <dc:creator>Маша</dc:creator>
  <dc:description/>
  <dc:language>en-US</dc:language>
  <cp:lastModifiedBy>Маша</cp:lastModifiedBy>
  <dcterms:modified xsi:type="dcterms:W3CDTF">2010-06-08T13:51:59Z</dcterms:modified>
  <cp:revision>17</cp:revision>
  <dc:subject/>
  <dc:title>Логарифмы вокруг нас</dc:title>
</cp:coreProperties>
</file>